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51531-3441-4046-8F60-DE5E2CCAB6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16462-5C4B-4D0D-A8FB-158E903BE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E046A-3417-4DD0-B490-6B4903019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E1CAB-EF51-4BBB-8EBE-E46EA85F2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04D44-F686-464A-B66D-B21E89B73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FFA6E-6CF5-40C0-9105-0D7A2B12A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7AAF6-2E49-4CA2-9558-0C662D797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340E8-13F4-4B16-8B77-4FFD7A9FC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ABD31-F579-4221-A300-4AC9329BA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EC893-55B9-4219-AE06-20821734B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E8A61-1839-410F-9672-C2C25ABAD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3E446-10D6-4B5D-89AB-9612FA7A3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178B5-25D5-4715-A0F3-AA0C7E3B3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D457D-0AB5-4EE3-8637-5D766F1AA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76BA5-5F56-4A62-8D78-29D12F00D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EFCF8-B6D9-48F4-9142-ADBC1B1EB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F5FCD-7452-4DBF-88A0-A30073577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E24CF-09FF-4F2C-BC46-0A12C38BF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earch here on project learning  vs traditional lear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3583E-1A4A-461F-8347-C3E7D2624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C4986-A30F-43D9-8499-0DD718217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D5CDF-8325-4AB1-86EE-88B2630F2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reen shots of tests with lin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B55A6-E4CE-44D6-B404-6FB39B3B4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35150-104A-4FCE-A7B6-52CB5ABB8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36A7-8EA0-44AD-9435-C2B890685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7086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904760" y="4183560"/>
            <a:ext cx="7086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6E12-DFC3-408C-82B1-506DBFF0F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90476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53608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EF72-77F8-4356-B448-90783A292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00920" y="16761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97080" y="16761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904760" y="41835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00920" y="41835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97080" y="41835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70D7-AB36-48A2-BDA3-7593FD139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9A233-A89B-4F96-8977-53C140C3A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83A01-E62D-49F7-A30A-B9B29A050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8EBB1-5029-456F-B4ED-14F072962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7D4C7-4176-40D8-BFF3-5AAF600EF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C5906-2794-4E69-BF36-7A567635E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52120" y="152280"/>
            <a:ext cx="71629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E7C52-D7DB-4BD9-9336-C80DDE2AB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90476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A62C5-F091-4426-8F8B-7D50A31C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F357-76D4-4DB4-8799-51C4A031C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53608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D6675-E0F8-41DB-96E6-8B7C6D23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904760" y="4183560"/>
            <a:ext cx="7086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85575-3EA5-488C-AD86-A9823691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7086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904760" y="4183560"/>
            <a:ext cx="7086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55651-5C80-4076-932F-F5CAA4EC2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90476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53608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2B8A0-D8AA-4D3E-9C10-F85391F00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00920" y="16761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97080" y="16761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904760" y="41835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00920" y="41835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97080" y="41835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11C21-233F-4C08-A772-5B5E31F33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16A4-A5CD-4E09-BE36-838AB1474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1E17-BD29-44F0-A8EA-7D5E7DA78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B70E-C78C-43B4-9508-0E1CBC18C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52120" y="152280"/>
            <a:ext cx="71629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AE5F-97F0-4753-9CF3-705427CBF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90476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955F-A9A1-46CC-AD9D-56857FD3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53608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FD0B-1C6C-41A7-8459-EFE79891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904760" y="4183560"/>
            <a:ext cx="7086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15F0-CFB3-4B0D-8F99-5F82ABAE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P_SBUSC_TXT_Last_Piec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2127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764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9EDEB-028A-47CE-82AC-0DBE88E4AC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PPP_SBUSC_TLE_Last_Piec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2127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15192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85764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DC03A-302C-45AA-AE6A-C87B00EFA2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www.google.com/a/pulpenn.com/" TargetMode="External"/><Relationship Id="rId2" Type="http://schemas.openxmlformats.org/officeDocument/2006/relationships/hyperlink" Target="http://www.google.com/educators/p_apps.html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voicethread.com/share/80590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moodle.pennfield.net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urfaquarium.com/MI/inventory.htm" TargetMode="External"/><Relationship Id="rId2" Type="http://schemas.openxmlformats.org/officeDocument/2006/relationships/hyperlink" Target="http://www.oswego.edu/plsi/taketest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mi-techintegration.wikispaces.com/Pulling+it+Together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502920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ols for Learning</a:t>
            </a:r>
            <a:endParaRPr b="0" lang="en-US" sz="32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52280" y="6019560"/>
            <a:ext cx="883944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Tammy Maginity</a:t>
            </a:r>
            <a:endParaRPr b="0" lang="en-US" sz="1500" spc="-1" strike="noStrike">
              <a:solidFill>
                <a:srgbClr val="212747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Pennfield Schools/MSU EdTech Program</a:t>
            </a:r>
            <a:endParaRPr b="0" lang="en-US" sz="15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Wiki Info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Different Intelligences and technology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Putting it all together – find a bucket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ebquests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Assessments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My Tool Belt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1534680"/>
            <a:ext cx="3583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2747"/>
                </a:solidFill>
                <a:latin typeface="Arial"/>
              </a:rPr>
              <a:t>Software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MS Office or Open Office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Audacity – sound editing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Freemind or Vue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Photosotory 3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Jing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IrfanView or Picassa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2747"/>
                </a:solidFill>
                <a:latin typeface="Arial"/>
              </a:rPr>
              <a:t>Website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Google Doc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Discovery Streaming (teacher tube, you tube)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Bubbl.u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Voice Thread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Jing with Screencast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Wikispace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Content Management System (Moodle)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Google Apps</a:t>
            </a:r>
            <a:br>
              <a:rPr sz="3600"/>
            </a:b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google.com/a/pulpenn.com/</a:t>
            </a:r>
            <a:r>
              <a:rPr b="0" lang="en-US" sz="2000" spc="-1" strike="noStrike">
                <a:solidFill>
                  <a:srgbClr val="212747"/>
                </a:solidFill>
                <a:latin typeface="Arial"/>
              </a:rPr>
              <a:t> Pennfield’s</a:t>
            </a:r>
            <a:br>
              <a:rPr sz="2000"/>
            </a:b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google.com/educators/p_apps.html</a:t>
            </a:r>
            <a:r>
              <a:rPr b="0" lang="en-US" sz="2000" spc="-1" strike="noStrike">
                <a:solidFill>
                  <a:srgbClr val="212747"/>
                </a:solidFill>
                <a:latin typeface="Arial"/>
              </a:rPr>
              <a:t> Infor</a:t>
            </a:r>
            <a:endParaRPr b="0" lang="en-US" sz="2000" spc="-1" strike="noStrike">
              <a:solidFill>
                <a:srgbClr val="212747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3"/>
          <a:stretch/>
        </p:blipFill>
        <p:spPr>
          <a:xfrm>
            <a:off x="1143000" y="1523880"/>
            <a:ext cx="708660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502920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icethread</a:t>
            </a:r>
            <a:endParaRPr b="0" lang="en-US" sz="32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52280" y="6019560"/>
            <a:ext cx="883944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voicethread.com/share/8059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/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2"/>
          <a:stretch/>
        </p:blipFill>
        <p:spPr>
          <a:xfrm>
            <a:off x="838080" y="685800"/>
            <a:ext cx="70930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Discovery Streaming</a:t>
            </a:r>
            <a:br>
              <a:rPr sz="3600"/>
            </a:br>
            <a:r>
              <a:rPr b="0" lang="en-US" sz="1800" spc="-1" strike="noStrike">
                <a:solidFill>
                  <a:srgbClr val="212747"/>
                </a:solidFill>
                <a:latin typeface="Arial"/>
              </a:rPr>
              <a:t>http://streaming.discoveryeducation.com/</a:t>
            </a:r>
            <a:endParaRPr b="0" lang="en-US" sz="1800" spc="-1" strike="noStrike">
              <a:solidFill>
                <a:srgbClr val="212747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08660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Moodle</a:t>
            </a:r>
            <a:br>
              <a:rPr sz="3600"/>
            </a:b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moodle.pennfield.net</a:t>
            </a:r>
            <a:br>
              <a:rPr sz="2000"/>
            </a:br>
            <a:endParaRPr b="0" lang="en-US" sz="2000" spc="-1" strike="noStrike">
              <a:solidFill>
                <a:srgbClr val="212747"/>
              </a:solidFill>
              <a:latin typeface="Arial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2"/>
          <a:stretch/>
        </p:blipFill>
        <p:spPr>
          <a:xfrm>
            <a:off x="1295280" y="1600200"/>
            <a:ext cx="708660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Bubbl.us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708660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Wikispaces</a:t>
            </a:r>
            <a:br>
              <a:rPr sz="3600"/>
            </a:b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http://loomisland.wikispaces.com 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708660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Other Fun Sites!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Blabberize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ordle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Toon do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Webquests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Allows you to have a common goal and students get there in different ways.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Example Roman Times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Muckraker Magazine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Background?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905120" y="1676520"/>
            <a:ext cx="6324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ho am I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Instructional Technology Coordinator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MSU Educational Technology Teacher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Middle School Teacher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hy listen to me?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Maybe you should run 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One to one program perspective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Trainer for staff PD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Example of combining MI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http://www.youtube.com/watch?v=x6D9jiEYxzs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Opportunity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Macul Closing Session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Created by the people and for the people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Go to website and give a topic you want to pursue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The entire group of people will collaborate on the spot to build a lesson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http://blog.discoveryeducation.com/maculcloser 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So now what?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904760" y="1676160"/>
            <a:ext cx="7086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tart smal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Find out what kind of learners you have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Pick a small task and give different ways to do the task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Build from there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Where do we start?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At first, focus is on the too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Sessions on cool tool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Array of possibilitie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here should the focus be?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First on the learning outcome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Second on the learner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Then the tool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Pressure to Individualize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Lots of focus on: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individualizing learning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meeting all the students need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Is this possible? Yes, but it isn’t the easy way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pressures of teaching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pressure to be ready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ecurity in the known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The Answer….Maybe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Projects and assignments that can have multiple outcomes with the learning in tact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ounds hard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It is, but it is worth it…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Disclaimer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I am not creating anything new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Pulling together resources that exist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Putting it in a way that is useful for the classroom teacher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Where do we start?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hat do you want the learners to know when it is all said and done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tandards, benchmarks, GLCE’s, HSCE’s etc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hat is the target? How will I know if they know it?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Second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Know your learners or have them know themselves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Multiple Intelligences, Learning Styles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Learning Inventories are an option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urfaquarium.com/MI/inventory.htm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oswego.edu/plsi/taketest.htm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Third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hat tool do I need?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e finally get to the tools…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Look at th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iki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02:12:04Z</dcterms:created>
  <dc:creator>staff</dc:creator>
  <dc:description/>
  <cp:keywords/>
  <dc:language>en-US</dc:language>
  <cp:lastModifiedBy>staff</cp:lastModifiedBy>
  <dcterms:modified xsi:type="dcterms:W3CDTF">2010-03-11T18:51:31Z</dcterms:modified>
  <cp:revision>2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862111033</vt:lpwstr>
  </property>
</Properties>
</file>